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5D05-B252-4AAF-8893-ED957E9AC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66A9-D468-42F5-98AF-A995E17F7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8231FC-F8D8-4DAD-87DA-1D0B9A17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CB261D-3D8B-43AC-A779-A91F99A8D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34D641-D4F7-4AA0-BD6E-A4B008E71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A8D2CC-303D-4CE3-B96B-2C51EEEB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FEB599-2C38-4EBC-B7B0-8FA4BA58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48B879-F96B-4EB4-9EA2-CDD676F2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7E9537-1C99-41CB-A3AD-26BB647EF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CFD82E-5B32-42FB-8027-226C7DE19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3470CE-0A80-4534-A3AA-D104BE443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ECAA56-9F46-4541-BE66-2E261A793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B736-452F-4C55-AA22-73E69C0C6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905EA5-B167-430C-80DC-2B9B1F6E0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DA6C3F-685A-4BFA-BEE9-B4159DE90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6C05D4-230F-48D1-AB4F-3206B5C9F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972009-7A2F-4DD0-B3B7-A06C66850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0E6E4C-EE28-4776-9897-010829840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083376-B93D-487E-B36F-672E494B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AED4DA-C24E-4F74-BF5B-B9A30CD4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EB0457-DCE9-4722-9747-75629493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8F43DA-3532-4222-B16F-E4C7D52D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619871-BED6-49BA-9862-B4C872EE0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C226-2CF6-4F99-A248-79BECF6AD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033E10-3C46-4FA9-94F4-93AFB9887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530056-3CDF-4915-9ABF-AF35737A6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D5EA88-5E58-438E-B24D-6B9847B14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BF606E-330C-47EB-855D-CDF9ACAB5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50A170-FE03-4960-81A3-57F4A109D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934D1B-8102-4314-8384-3CCFF2DF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C41377-7FAE-4966-8183-C6A55FAB6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000337-2C96-4665-B2DD-822405ED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A082F9-C5EA-4F1B-9909-6C166849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49A14A-03D3-4DA5-847E-A5C7F1AB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9F940-AA94-49FF-AD04-4EAF574BA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29F5F3-5FA3-4F67-9ECB-DD2640EFC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185F5B-FAF0-4A9A-BCA0-1D3934FC9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3EC38F-570C-4911-A9B6-1E2A185CA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540532-A523-4BBA-9A98-92C45B56A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4A26E9-3EA7-4775-BF81-68C7AF694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FE32FF-F5CE-4ECF-9F60-3D1D761E4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2DF80D-F046-485C-B7E7-BD1B649ED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7663F7-839B-441F-BE92-CCD10FA46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7C5644-4753-4B3D-8295-C3DCDFFAA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2C9331-77E1-4A6A-B41E-252EF746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7C256-986F-42AE-9044-0F576C5CF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395133-FACB-4213-BB11-8B72EDC6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DC9C25-471F-4E25-8863-DEC005A2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C2137E-A6E4-4A3E-8D81-5475A40A0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E41ED9-4D3F-403E-99F7-98FC25DAB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AB5AC2-5000-4A9F-BB43-F596EB7B7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0F070-1FF9-410E-A0F6-857F2A0BD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30BEE-5EBA-4C21-9039-BE84D1AE2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B8934-9F6E-4C0C-BB3F-BEDAF78F6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DD174-A22F-444E-B81F-0F9A7619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C8A4D-67B8-422E-92EF-1A649356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99AC-6159-4AB7-BB0C-8A1742980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197D7-6DEF-4FED-A932-29B6C77C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0AD9D-7153-4A5F-9A8E-F8F5F595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0AAEC-5503-47E9-8B99-9078B8698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52E7E-2A4D-499E-A2DF-41987AB0F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202D3-FD6C-4710-B134-48FE86A99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2D0B9-B7AF-4708-94E8-3A213B859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B992C-BDA7-44C0-91CF-DFFDDA513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8F5A2-D543-46A2-9443-BB4CAD863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057BB-F647-41D7-8E55-E06DF8422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55A59-1600-4D3A-B932-2B8743AA8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F582-2B37-43FF-BC1A-0DF8A458D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B6502-BB60-4A82-A3FF-42B63C4DE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9C2E7-C479-4269-A9AB-7781B60C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BB923-9387-4B0F-BF4D-9C7D94EB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DAAB8-8DF6-40CD-9043-E6456122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0C1ED-4A68-452D-8C55-D694EADEE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4001B-7023-49EE-8118-A265A47C5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4A28C-1933-4728-9333-FA18BC4C9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C9A65-DEC9-4504-829B-AD792253C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64E10-F1D0-48AF-AD8D-D4B694341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BB514-76F7-407A-A1FF-9F962FD9D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B7B9-FB53-44A7-8595-E982518CD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9BD36-C92B-4039-A1C4-C6D61B367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84FA5-EE7A-4E32-BF34-37100FBD1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E4735-0191-4A2E-99F5-3558051A9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4610D-A33B-452C-BD15-ACD30EF2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55150-8125-48DA-8DA9-A8148425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71126-3BB0-4595-8ED1-3BCAE936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33502-FAA0-4BB8-8B80-D8E07C924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01152-8680-4F70-A229-46F9E2790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4486E-C6BF-48B1-ABE4-009AD4375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A1E5E-B11D-4EA0-9F17-FC2A7165F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D4AB-00B8-4419-A4D1-B2BDA03CF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6AD26-AEEC-4AAC-89DB-1E6D55EE6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958F5-B5EB-4398-A75B-72C73FB86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57255-A31D-4D89-8559-C222999AA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70627-8315-4777-BB77-4B90A5ADF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AD1DE-ACAA-4CBC-B881-BE63CFE5D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94A12-7E77-42E1-9C6C-9E2D8CF3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C1515-455A-4AA6-A0DA-37C9CD85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688EF-DB51-4329-B175-F1D7103E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E6B4A-FB2B-407B-A453-4DF6A7638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78FEA-2CAE-4C54-9D88-B7D269EE5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91AA-EE9E-4A6F-A7A5-8B71C390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63C0A-B673-46E1-A200-171D89AE0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415F6-AB2E-4048-A3EC-698E50F22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083F6-3BD0-448A-BC26-B7B97A0C2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E1E1A-87E8-4079-8999-71C1DE962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64AF0A-D208-400A-B716-D78CDE060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E601D-440B-4309-AC02-828A6B5CE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4AD62-C3F8-40EC-A6BE-8167DA209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5FC2C-FE14-403D-AABC-2268B5A3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36EBC-286F-4E0D-A9E6-24E30257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3810C-089D-4BFA-9274-32F57DCF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B70F-8427-4098-B9A3-B8B86A33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C3EF9-C22C-4831-BA43-7C5A89300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ABA31A-A264-421D-AD24-42587E721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A5C373-B579-4F8B-BF8C-F6DD424A3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C4E4F6-9D0D-4924-80AE-47BC74FC6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739B1-D236-4A30-8416-57E7EEE3D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9C38BF-0207-4F5C-9656-78C6D1F52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9AC25-0980-40EF-B183-E58E728DB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538BB6-66DD-4A97-84C2-6A30A84BA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6EDD91-E2B5-4F2D-B2C6-14032C285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DF273-7DBC-4D43-A2C6-9C184AF7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FE3B-C1BA-419A-988B-409185DA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73090E-7BF8-47BA-B963-BB783851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C8491-C783-4F8D-8E44-79DF11AA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326343-9D3F-4C27-AB03-12AE9DEE1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E4E22-83EA-48B5-8A07-191FF2D87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015FC-4979-46E4-9712-FF5998BCC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2DD7BC-4A16-4EEC-B4BC-7D5E1763D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C6E0E1-8DC1-4E48-9AD8-31451A8D1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AC087C-AB43-498F-B233-101117ACD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9AE1C9-CAE2-4FF1-8B4C-5A19D8CA9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EB64A-3E99-4BC0-A0B4-BFDD56040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AB27-D3FF-493C-B735-96AAB4F8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A77B1E-B31A-43CA-9CC8-EB1B9070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3CD9E1-D263-476C-AA4C-D6468279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21C116-001C-4E51-B61D-66B9DC13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8AB0A6-47AF-4EF7-92F5-810D810F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BA46B-26D0-4125-885C-F67438312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277213-006C-4069-864A-6906848B3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35C95E-C47C-4ACC-AC4B-DFAEF6B38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5E8373-E394-4EC9-B676-F31F85B7A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B932E3-1860-460E-A5CB-CE740994B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5474BF-9AD9-4EE2-B0E0-58B8072EA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D0F3B-4A1B-49FF-9F08-AEB2DFBE447C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1D03F-6AA4-43B0-AF99-1F4DCDA2D514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C93C3-B021-437F-AB73-EEA62643493B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B3077-D635-41CE-93F1-C066ED083C5F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77271-EC5C-4A31-9789-A2A6F8C57EF9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C5351-70FF-4E74-AE24-1B514460AA51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700CD-3364-4ABF-90EE-2F743806EFD6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170C2-B1B9-4279-9044-C2BD02BB31FE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B855E-0B67-47BE-A7B8-EFDEA7F27533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4B2BB-844D-4230-8563-6890B503ECC9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5CB1C-03E9-432F-A6E5-A250744E1B83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DDCD2-B229-41B1-A686-3F6DA80967AF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211280" y="152280"/>
            <a:ext cx="4475160" cy="30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457200" y="3716280"/>
            <a:ext cx="8229600" cy="23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Georgia"/>
              </a:rPr>
              <a:t>Семья Рогановых. </a:t>
            </a:r>
            <a:endParaRPr b="0" lang="en-US" sz="6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08" name="Picture 2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414036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/>
          </p:nvPr>
        </p:nvSpPr>
        <p:spPr>
          <a:xfrm>
            <a:off x="301320" y="1523880"/>
            <a:ext cx="4040280" cy="7336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7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eorgia"/>
              </a:rPr>
              <a:t>                </a:t>
            </a:r>
            <a:r>
              <a:rPr b="1" lang="ru-RU" sz="2200" spc="-1" strike="noStrike">
                <a:solidFill>
                  <a:srgbClr val="ffffff"/>
                </a:solidFill>
                <a:latin typeface="Georgia"/>
              </a:rPr>
              <a:t>ПАПА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790880" y="1523520"/>
            <a:ext cx="4041720" cy="7318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7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eorgia"/>
              </a:rPr>
              <a:t>                </a:t>
            </a:r>
            <a:r>
              <a:rPr b="1" lang="ru-RU" sz="2200" spc="-1" strike="noStrike">
                <a:solidFill>
                  <a:srgbClr val="ffffff"/>
                </a:solidFill>
                <a:latin typeface="Georgia"/>
              </a:rPr>
              <a:t>МАМА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1" name="Picture 2" descr="C:\Users\User\Desktop\программы\п.jpeg"/>
          <p:cNvPicPr/>
          <p:nvPr/>
        </p:nvPicPr>
        <p:blipFill>
          <a:blip r:embed="rId1"/>
          <a:stretch/>
        </p:blipFill>
        <p:spPr>
          <a:xfrm>
            <a:off x="1187280" y="2637000"/>
            <a:ext cx="2376720" cy="244764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3" descr="C:\Users\User\Desktop\программы\в.jpeg"/>
          <p:cNvPicPr/>
          <p:nvPr/>
        </p:nvPicPr>
        <p:blipFill>
          <a:blip r:embed="rId2"/>
          <a:stretch/>
        </p:blipFill>
        <p:spPr>
          <a:xfrm>
            <a:off x="5796000" y="2492280"/>
            <a:ext cx="2160720" cy="2952720"/>
          </a:xfrm>
          <a:prstGeom prst="rect">
            <a:avLst/>
          </a:prstGeom>
          <a:ln w="0">
            <a:noFill/>
          </a:ln>
        </p:spPr>
      </p:pic>
      <p:sp>
        <p:nvSpPr>
          <p:cNvPr id="613" name="PlaceHolder 3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36197"/>
                </a:solidFill>
                <a:latin typeface="Georgia"/>
              </a:rPr>
              <a:t>    </a:t>
            </a:r>
            <a:r>
              <a:rPr b="1" lang="ru-RU" sz="3000" spc="-1" strike="noStrike">
                <a:solidFill>
                  <a:srgbClr val="536197"/>
                </a:solidFill>
                <a:latin typeface="Georgia"/>
              </a:rPr>
              <a:t>У меня есть папа, его зовут Николай и мама, её зовут Люба. </a:t>
            </a:r>
            <a:r>
              <a:rPr b="0" lang="ru-RU" sz="3000" spc="-1" strike="noStrike">
                <a:solidFill>
                  <a:srgbClr val="536197"/>
                </a:solidFill>
                <a:latin typeface="Georgia"/>
              </a:rPr>
              <a:t>                  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Заголовок 4" descr=""/>
          <p:cNvPicPr/>
          <p:nvPr/>
        </p:nvPicPr>
        <p:blipFill>
          <a:blip r:embed="rId1"/>
          <a:stretch/>
        </p:blipFill>
        <p:spPr>
          <a:xfrm>
            <a:off x="225360" y="762120"/>
            <a:ext cx="2743200" cy="3681360"/>
          </a:xfrm>
          <a:prstGeom prst="rect">
            <a:avLst/>
          </a:prstGeom>
          <a:ln w="0">
            <a:noFill/>
          </a:ln>
        </p:spPr>
      </p:pic>
      <p:sp>
        <p:nvSpPr>
          <p:cNvPr id="615" name="Стрелка вниз 8"/>
          <p:cNvSpPr/>
          <p:nvPr/>
        </p:nvSpPr>
        <p:spPr>
          <a:xfrm>
            <a:off x="1116000" y="1760400"/>
            <a:ext cx="431640" cy="1008360"/>
          </a:xfrm>
          <a:prstGeom prst="downArrow">
            <a:avLst>
              <a:gd name="adj1" fmla="val 50000"/>
              <a:gd name="adj2" fmla="val 50032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Прямоугольник 1"/>
          <p:cNvSpPr/>
          <p:nvPr/>
        </p:nvSpPr>
        <p:spPr>
          <a:xfrm>
            <a:off x="5219640" y="463680"/>
            <a:ext cx="2305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е основное время провожу с Мамой. Она работает в школе учител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3" descr=""/>
          <p:cNvPicPr/>
          <p:nvPr/>
        </p:nvPicPr>
        <p:blipFill>
          <a:blip r:embed="rId2"/>
          <a:stretch/>
        </p:blipFill>
        <p:spPr>
          <a:xfrm>
            <a:off x="6472080" y="1770120"/>
            <a:ext cx="487440" cy="103032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2" descr=""/>
          <p:cNvPicPr/>
          <p:nvPr/>
        </p:nvPicPr>
        <p:blipFill>
          <a:blip r:embed="rId3"/>
          <a:stretch/>
        </p:blipFill>
        <p:spPr>
          <a:xfrm>
            <a:off x="539640" y="3141720"/>
            <a:ext cx="2737080" cy="280836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3" descr=""/>
          <p:cNvPicPr/>
          <p:nvPr/>
        </p:nvPicPr>
        <p:blipFill>
          <a:blip r:embed="rId4"/>
          <a:stretch/>
        </p:blipFill>
        <p:spPr>
          <a:xfrm>
            <a:off x="4788000" y="3284640"/>
            <a:ext cx="3960720" cy="47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                 </a:t>
            </a: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Детские годы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1" name="Picture 2" descr="C:\Users\User\Desktop\а.jpeg"/>
          <p:cNvPicPr/>
          <p:nvPr/>
        </p:nvPicPr>
        <p:blipFill>
          <a:blip r:embed="rId1"/>
          <a:stretch/>
        </p:blipFill>
        <p:spPr>
          <a:xfrm>
            <a:off x="1979640" y="1628640"/>
            <a:ext cx="4032360" cy="4608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Picture 6" descr="C:\Users\User\Desktop\а.jpeg"/>
          <p:cNvPicPr/>
          <p:nvPr/>
        </p:nvPicPr>
        <p:blipFill>
          <a:blip r:embed="rId1"/>
          <a:stretch/>
        </p:blipFill>
        <p:spPr>
          <a:xfrm>
            <a:off x="4803840" y="5035680"/>
            <a:ext cx="1785960" cy="398592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2" descr="C:\Users\User\Desktop\в.jpeg"/>
          <p:cNvPicPr/>
          <p:nvPr/>
        </p:nvPicPr>
        <p:blipFill>
          <a:blip r:embed="rId2"/>
          <a:stretch/>
        </p:blipFill>
        <p:spPr>
          <a:xfrm>
            <a:off x="853920" y="1590840"/>
            <a:ext cx="2291040" cy="555300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4" descr="C:\Users\User\Desktop\SDC10575 - копия.JPG"/>
          <p:cNvPicPr/>
          <p:nvPr/>
        </p:nvPicPr>
        <p:blipFill>
          <a:blip r:embed="rId3"/>
          <a:stretch/>
        </p:blipFill>
        <p:spPr>
          <a:xfrm>
            <a:off x="2693880" y="255600"/>
            <a:ext cx="2652840" cy="2732040"/>
          </a:xfrm>
          <a:prstGeom prst="rect">
            <a:avLst/>
          </a:prstGeom>
          <a:ln w="0">
            <a:noFill/>
          </a:ln>
        </p:spPr>
      </p:pic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464e62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6" name="Picture 3" descr="C:\Users\User\Desktop\гк.jpeg"/>
          <p:cNvPicPr/>
          <p:nvPr/>
        </p:nvPicPr>
        <p:blipFill>
          <a:blip r:embed="rId4"/>
          <a:stretch/>
        </p:blipFill>
        <p:spPr>
          <a:xfrm>
            <a:off x="5791320" y="2060640"/>
            <a:ext cx="2786040" cy="280332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5" descr="C:\Users\User\Desktop\п.jpeg"/>
          <p:cNvPicPr/>
          <p:nvPr/>
        </p:nvPicPr>
        <p:blipFill>
          <a:blip r:embed="rId5"/>
          <a:stretch/>
        </p:blipFill>
        <p:spPr>
          <a:xfrm>
            <a:off x="2146320" y="3968640"/>
            <a:ext cx="1724040" cy="346896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7" descr="C:\Users\User\Desktop\го.jpeg"/>
          <p:cNvPicPr/>
          <p:nvPr/>
        </p:nvPicPr>
        <p:blipFill>
          <a:blip r:embed="rId6"/>
          <a:stretch/>
        </p:blipFill>
        <p:spPr>
          <a:xfrm>
            <a:off x="3255840" y="2639880"/>
            <a:ext cx="2773440" cy="490716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2" descr=""/>
          <p:cNvPicPr/>
          <p:nvPr/>
        </p:nvPicPr>
        <p:blipFill>
          <a:blip r:embed="rId7"/>
          <a:stretch/>
        </p:blipFill>
        <p:spPr>
          <a:xfrm rot="20454000">
            <a:off x="5519880" y="1099800"/>
            <a:ext cx="2808000" cy="1868400"/>
          </a:xfrm>
          <a:prstGeom prst="rect">
            <a:avLst/>
          </a:prstGeom>
          <a:ln w="0">
            <a:noFill/>
          </a:ln>
        </p:spPr>
      </p:pic>
      <p:grpSp>
        <p:nvGrpSpPr>
          <p:cNvPr id="630" name="Овал 4"/>
          <p:cNvGrpSpPr/>
          <p:nvPr/>
        </p:nvGrpSpPr>
        <p:grpSpPr>
          <a:xfrm>
            <a:off x="6072120" y="4359240"/>
            <a:ext cx="3205080" cy="2554200"/>
            <a:chOff x="6072120" y="4359240"/>
            <a:chExt cx="3205080" cy="2554200"/>
          </a:xfrm>
        </p:grpSpPr>
        <p:pic>
          <p:nvPicPr>
            <p:cNvPr id="631" name="Овал 4" descr=""/>
            <p:cNvPicPr/>
            <p:nvPr/>
          </p:nvPicPr>
          <p:blipFill>
            <a:blip r:embed="rId8"/>
            <a:stretch/>
          </p:blipFill>
          <p:spPr>
            <a:xfrm>
              <a:off x="6072120" y="4359240"/>
              <a:ext cx="3205080" cy="255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 rot="381600">
              <a:off x="6632280" y="4856040"/>
              <a:ext cx="2084400" cy="15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Georgia"/>
                </a:rPr>
                <a:t>Активн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3" name="Овал 5"/>
          <p:cNvSpPr/>
          <p:nvPr/>
        </p:nvSpPr>
        <p:spPr>
          <a:xfrm>
            <a:off x="1908000" y="549360"/>
            <a:ext cx="2340000" cy="1366920"/>
          </a:xfrm>
          <a:prstGeom prst="ellipse">
            <a:avLst/>
          </a:prstGeom>
          <a:solidFill>
            <a:srgbClr val="d16349"/>
          </a:solidFill>
          <a:ln w="20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Упрям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Овал 6"/>
          <p:cNvSpPr/>
          <p:nvPr/>
        </p:nvSpPr>
        <p:spPr>
          <a:xfrm rot="19892400">
            <a:off x="1350720" y="5732280"/>
            <a:ext cx="1780920" cy="1125360"/>
          </a:xfrm>
          <a:prstGeom prst="ellipse">
            <a:avLst/>
          </a:prstGeom>
          <a:solidFill>
            <a:srgbClr val="d5d1cf"/>
          </a:solidFill>
          <a:ln w="9360">
            <a:solidFill>
              <a:srgbClr val="8c7b70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Добр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Овал 7"/>
          <p:cNvGrpSpPr/>
          <p:nvPr/>
        </p:nvGrpSpPr>
        <p:grpSpPr>
          <a:xfrm>
            <a:off x="-212760" y="3097080"/>
            <a:ext cx="2846520" cy="2346480"/>
            <a:chOff x="-212760" y="3097080"/>
            <a:chExt cx="2846520" cy="2346480"/>
          </a:xfrm>
        </p:grpSpPr>
        <p:pic>
          <p:nvPicPr>
            <p:cNvPr id="636" name="Овал 7" descr=""/>
            <p:cNvPicPr/>
            <p:nvPr/>
          </p:nvPicPr>
          <p:blipFill>
            <a:blip r:embed="rId9"/>
            <a:stretch/>
          </p:blipFill>
          <p:spPr>
            <a:xfrm>
              <a:off x="-212760" y="3097080"/>
              <a:ext cx="2846520" cy="23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"/>
            <p:cNvSpPr/>
            <p:nvPr/>
          </p:nvSpPr>
          <p:spPr>
            <a:xfrm rot="795000">
              <a:off x="345600" y="3643200"/>
              <a:ext cx="1730520" cy="12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Georgia"/>
                </a:rPr>
                <a:t>Творческ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186920" y="1700280"/>
            <a:ext cx="7355160" cy="2665440"/>
          </a:xfrm>
          <a:prstGeom prst="rect">
            <a:avLst/>
          </a:prstGeom>
          <a:solidFill>
            <a:srgbClr val="8fb08c"/>
          </a:solidFill>
          <a:ln w="20160">
            <a:solidFill>
              <a:srgbClr val="ffffff"/>
            </a:solidFill>
            <a:miter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Georgia"/>
              </a:rPr>
              <a:t>        </a:t>
            </a:r>
            <a:r>
              <a:rPr b="0" lang="ru-RU" sz="3300" spc="-1" strike="noStrike">
                <a:solidFill>
                  <a:srgbClr val="ffffff"/>
                </a:solidFill>
                <a:latin typeface="Georgia"/>
              </a:rPr>
              <a:t>Любимые занятия</a:t>
            </a:r>
            <a:br>
              <a:rPr sz="3300"/>
            </a:br>
            <a:r>
              <a:rPr b="0" lang="ru-RU" sz="3300" spc="-1" strike="noStrike">
                <a:solidFill>
                  <a:srgbClr val="ffffff"/>
                </a:solidFill>
                <a:latin typeface="Georgia"/>
              </a:rPr>
              <a:t>   Танцы , спорт ,прогулки ,              катания на лыжах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8T10:54:52Z</dcterms:created>
  <dc:creator>User</dc:creator>
  <dc:description/>
  <dc:language>en-US</dc:language>
  <cp:lastModifiedBy>админ2</cp:lastModifiedBy>
  <dcterms:modified xsi:type="dcterms:W3CDTF">2011-11-23T15:32:34Z</dcterms:modified>
  <cp:revision>29</cp:revision>
  <dc:subject/>
  <dc:title>Моя семья</dc:title>
</cp:coreProperties>
</file>