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0388-3F1F-468D-B167-71B56D04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DA1-4FC7-4B93-B99E-FFF84FC5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7B59-537A-466C-91BA-4F94F2CB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FD6-414C-4B9F-8756-1B25C272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6118-D602-4861-A4A4-688D334B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192A-90FA-41A4-AB8C-FB2F5090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74DB-1B6E-4854-A6C8-0528A64A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8F4B-E67F-4297-A5CF-28917215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0FA5-BC89-4DEE-B56A-39E2CB8D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BD6D-14C3-4FBC-B865-C08E3FDA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DEE5-9801-46BA-80D3-84CC0854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093-89C2-46D4-A788-0574F966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FBBC-D3A1-45E8-B5AE-863CC375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BC8E-C383-4902-8582-7704DC5C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02E8-71F7-48E3-AF65-AEFFE9E0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1AAA-3CBB-4943-8A5D-D18D4EB1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5845-45D6-46F7-B36B-8C20881A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548A9-62EB-4188-8F66-11A8430C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D55B3-E616-4AD8-AD15-76685301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A1CD3-5F37-4F5D-A1D4-28B0E452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B36F9-3523-445F-A090-701C2615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42151-6B0D-4433-A119-BC2F6960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599-A86A-4362-B124-7F0F83E7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5CA52-B01A-4D13-A872-0FC21A8C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7D731-EB57-4F1E-95A3-8807A11B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673D9-2D58-4BC2-8F3F-ED714020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F1DAE-3AB2-4D29-A5D1-CADE4BB4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0C11E-F8D4-468D-881C-31EF1976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ACAFB-A39F-49FE-A0D5-EBF8E732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F3EA5-D6C4-4D47-A4F5-6D869411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4B099-DA7C-4406-BA60-6ADBFBA8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7637B-8A3A-4097-92C4-8DD6CECF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B6781-3498-4189-AAFC-B8BD6E98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A13-BB30-4374-A78F-45094A77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25177-B330-4709-941D-93900198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C656C-6301-45C3-B8DD-45E4397E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9F5DD-F902-4A35-B1F5-268F3C98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7C30C-4A58-40FE-A374-F59FF4BA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1C206-30A7-446C-9F72-F20D7EBD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23198-2535-4D71-B701-0593CA13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9EA06-81DB-43A5-9B28-957C6A94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0A571-488D-4803-A600-BACB8733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CDF39-A48F-4613-8CF3-7E2836EB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51ED0-924E-44D0-8082-D7258464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6AB-63CF-4F0A-B010-7B9C2EDE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8FAA9-16AF-4323-85D4-481ACC10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F4A9D-23F5-4727-8484-69F77DB5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30DEB-F66C-43C9-AB6D-955A09E2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6763A-F9A2-41B4-BAB2-CBFCEE51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1C37B-9EB7-456C-AF28-78E28764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E985C-7444-4880-8B0F-8CCCE14F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FE177-CC8D-4BD2-8734-EBA63E6A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57F93-B827-430F-9E72-4F0C783D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1908F-0C62-4B42-B7AA-28B57395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D292A-DD5C-40FA-B43A-53A1D415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70F6-25A7-44B1-AA85-3062BABA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66772-66CE-4430-98F4-65262A43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56F-7A94-4CE9-AA77-3FF021A8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2372-C1C0-4520-842A-03B67B65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88D8-BB3C-4C2F-A49B-558572CD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A7A0-A2F0-4F2F-A1D2-F53B2A9313F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2D0D-9398-490D-BEA0-4F92222890B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CBA6-F4DD-46EA-852A-2CD2FDC2894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7594-22DB-4C44-867D-F6AE219B9E69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5A9C-00CF-40AB-93B3-498247E29BB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1956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722160" y="3684240"/>
            <a:ext cx="7772400" cy="1887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Заместитель директора по ВР МОУ «СОШ с.Анастасьино Калининского района Саратовской области»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такое семья? Как она возникает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ие бывают семьи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ля чего нужна семья ребёнку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Хорошо ли, если в семье живут несколько поколений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ое значение имеет семья для государства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3924360" y="4437000"/>
            <a:ext cx="29512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72520" cy="11764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На что и клад, коли в семье лад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Где любовь и совет – там и горя нет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Вся семья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месте, так и душа на месте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семья крепка ладом»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езентация Рогановой Марии «Семья Рогановых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www.church-schekino.ru/forum/viewtopic.php?f=15&amp;t=344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ru.picscdn.com/domain/alf-print.ru/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zestxkas.blog.ru/feeds?year=2010&amp;month=07&amp;day=8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kazan.olx.ru/8-927-405-98-59-iid-148454307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www.vartovchonok.ru/forum/viewtopic.php?f=36&amp;t=2005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549360"/>
            <a:ext cx="72388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Семья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емья объединяет людей, которые являются кровными родственниками (мать и дети, сестры и братья) или близкими людьми (муж и жена, свекровь и невестка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1476360" y="2924280"/>
            <a:ext cx="51832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Таблица 3" descr=""/>
          <p:cNvPicPr/>
          <p:nvPr/>
        </p:nvPicPr>
        <p:blipFill>
          <a:blip r:embed="rId1"/>
          <a:stretch/>
        </p:blipFill>
        <p:spPr>
          <a:xfrm>
            <a:off x="927000" y="927000"/>
            <a:ext cx="7650360" cy="1719360"/>
          </a:xfrm>
          <a:prstGeom prst="rect">
            <a:avLst/>
          </a:prstGeom>
          <a:ln w="0">
            <a:noFill/>
          </a:ln>
        </p:spPr>
      </p:pic>
      <p:pic>
        <p:nvPicPr>
          <p:cNvPr id="225" name="Таблица 4" descr=""/>
          <p:cNvPicPr/>
          <p:nvPr/>
        </p:nvPicPr>
        <p:blipFill>
          <a:blip r:embed="rId2"/>
          <a:stretch/>
        </p:blipFill>
        <p:spPr>
          <a:xfrm>
            <a:off x="3139920" y="2925720"/>
            <a:ext cx="3151440" cy="1109880"/>
          </a:xfrm>
          <a:prstGeom prst="rect">
            <a:avLst/>
          </a:prstGeom>
          <a:ln w="0">
            <a:noFill/>
          </a:ln>
        </p:spPr>
      </p:pic>
      <p:pic>
        <p:nvPicPr>
          <p:cNvPr id="226" name="Таблица 5" descr=""/>
          <p:cNvPicPr/>
          <p:nvPr/>
        </p:nvPicPr>
        <p:blipFill>
          <a:blip r:embed="rId3"/>
          <a:stretch/>
        </p:blipFill>
        <p:spPr>
          <a:xfrm>
            <a:off x="212760" y="3359160"/>
            <a:ext cx="1719360" cy="804960"/>
          </a:xfrm>
          <a:prstGeom prst="rect">
            <a:avLst/>
          </a:prstGeom>
          <a:ln w="0">
            <a:noFill/>
          </a:ln>
        </p:spPr>
      </p:pic>
      <p:pic>
        <p:nvPicPr>
          <p:cNvPr id="227" name="Таблица 7" descr=""/>
          <p:cNvPicPr/>
          <p:nvPr/>
        </p:nvPicPr>
        <p:blipFill>
          <a:blip r:embed="rId4"/>
          <a:stretch/>
        </p:blipFill>
        <p:spPr>
          <a:xfrm>
            <a:off x="66600" y="4359240"/>
            <a:ext cx="2865600" cy="803160"/>
          </a:xfrm>
          <a:prstGeom prst="rect">
            <a:avLst/>
          </a:prstGeom>
          <a:ln w="0">
            <a:noFill/>
          </a:ln>
        </p:spPr>
      </p:pic>
      <p:pic>
        <p:nvPicPr>
          <p:cNvPr id="228" name="Таблица 8" descr=""/>
          <p:cNvPicPr/>
          <p:nvPr/>
        </p:nvPicPr>
        <p:blipFill>
          <a:blip r:embed="rId5"/>
          <a:stretch/>
        </p:blipFill>
        <p:spPr>
          <a:xfrm>
            <a:off x="2925720" y="4638600"/>
            <a:ext cx="2359080" cy="811440"/>
          </a:xfrm>
          <a:prstGeom prst="rect">
            <a:avLst/>
          </a:prstGeom>
          <a:ln w="0">
            <a:noFill/>
          </a:ln>
        </p:spPr>
      </p:pic>
      <p:pic>
        <p:nvPicPr>
          <p:cNvPr id="229" name="Таблица 9" descr=""/>
          <p:cNvPicPr/>
          <p:nvPr/>
        </p:nvPicPr>
        <p:blipFill>
          <a:blip r:embed="rId6"/>
          <a:stretch/>
        </p:blipFill>
        <p:spPr>
          <a:xfrm>
            <a:off x="5284800" y="4638600"/>
            <a:ext cx="3073320" cy="811440"/>
          </a:xfrm>
          <a:prstGeom prst="rect">
            <a:avLst/>
          </a:prstGeom>
          <a:ln w="0">
            <a:noFill/>
          </a:ln>
        </p:spPr>
      </p:pic>
      <p:pic>
        <p:nvPicPr>
          <p:cNvPr id="230" name="Таблица 10" descr=""/>
          <p:cNvPicPr/>
          <p:nvPr/>
        </p:nvPicPr>
        <p:blipFill>
          <a:blip r:embed="rId7"/>
          <a:stretch/>
        </p:blipFill>
        <p:spPr>
          <a:xfrm>
            <a:off x="6997680" y="3638520"/>
            <a:ext cx="1792440" cy="1231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C:\Program Files\Microsoft Office\MEDIA\OFFICE12\Bullets\BD21300_.gif"/>
          <p:cNvPicPr/>
          <p:nvPr/>
        </p:nvPicPr>
        <p:blipFill>
          <a:blip r:embed="rId8"/>
          <a:stretch/>
        </p:blipFill>
        <p:spPr>
          <a:xfrm>
            <a:off x="4572000" y="2500200"/>
            <a:ext cx="285840" cy="330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C:\Program Files\Microsoft Office\MEDIA\OFFICE12\Bullets\BD21300_.gif"/>
          <p:cNvPicPr/>
          <p:nvPr/>
        </p:nvPicPr>
        <p:blipFill>
          <a:blip r:embed="rId9"/>
          <a:stretch/>
        </p:blipFill>
        <p:spPr>
          <a:xfrm rot="8722800">
            <a:off x="1909080" y="3354120"/>
            <a:ext cx="330120" cy="285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C:\Program Files\Microsoft Office\MEDIA\OFFICE12\Bullets\BD21300_.gif"/>
          <p:cNvPicPr/>
          <p:nvPr/>
        </p:nvPicPr>
        <p:blipFill>
          <a:blip r:embed="rId10"/>
          <a:stretch/>
        </p:blipFill>
        <p:spPr>
          <a:xfrm rot="7431000">
            <a:off x="2763720" y="4093920"/>
            <a:ext cx="330120" cy="285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Program Files\Microsoft Office\MEDIA\OFFICE12\Bullets\BD21300_.gif"/>
          <p:cNvPicPr/>
          <p:nvPr/>
        </p:nvPicPr>
        <p:blipFill>
          <a:blip r:embed="rId11"/>
          <a:stretch/>
        </p:blipFill>
        <p:spPr>
          <a:xfrm>
            <a:off x="4429080" y="4143240"/>
            <a:ext cx="285840" cy="330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C:\Program Files\Microsoft Office\MEDIA\OFFICE12\Bullets\BD21300_.gif"/>
          <p:cNvPicPr/>
          <p:nvPr/>
        </p:nvPicPr>
        <p:blipFill>
          <a:blip r:embed="rId12"/>
          <a:stretch/>
        </p:blipFill>
        <p:spPr>
          <a:xfrm rot="3337200">
            <a:off x="5906520" y="4165200"/>
            <a:ext cx="330480" cy="285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C:\Program Files\Microsoft Office\MEDIA\OFFICE12\Bullets\BD21300_.gif"/>
          <p:cNvPicPr/>
          <p:nvPr/>
        </p:nvPicPr>
        <p:blipFill>
          <a:blip r:embed="rId13"/>
          <a:stretch/>
        </p:blipFill>
        <p:spPr>
          <a:xfrm rot="2980800">
            <a:off x="6694200" y="3505320"/>
            <a:ext cx="33012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549360"/>
            <a:ext cx="72388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лены семьи ведут общее хозяйство , живут в одном доме, объединяют свои доходы и расходуют их вместе. Они вместе воспитывают детей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2556000" y="2924280"/>
            <a:ext cx="474804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333360"/>
            <a:ext cx="4330800" cy="61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емья образуется когда мужчина и женщина вступают в брак. Основой семьи является чувство любви, которое возникает между ними, желание жить вместе, растить и воспитывать дет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5003640" y="1484280"/>
            <a:ext cx="3143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12760" y="26208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052640"/>
            <a:ext cx="7238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емья – обязательная часть любого общества, государств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лавное её предназначение – чтобы не иссякал род человеческий, появлялись всё новые и новые поколения, развивалось общество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>
            <a:off x="3924360" y="3789360"/>
            <a:ext cx="369396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d75b7e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лавная обязанность семьи – воспитание дет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осударство помогает семье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еспечивает возможность семье получить жильё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еспечивает возможность устроить ребенка в дошкольное учреждение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аёт бесплатное образование и др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вухпоколенные семьи  – вместе живут мать, отец и их дет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рехпоколенные – вместе живут дети их родители, дедушки и бабуш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емью где по каким то причинам отсутствует один из родителей называют неполной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188640"/>
            <a:ext cx="7238880" cy="62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ебята,  расскажите о вашей семь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66672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7:38:32Z</dcterms:created>
  <dc:creator>Admin</dc:creator>
  <dc:description/>
  <dc:language>en-US</dc:language>
  <cp:lastModifiedBy>Admin</cp:lastModifiedBy>
  <dcterms:modified xsi:type="dcterms:W3CDTF">2012-12-02T10:07:05Z</dcterms:modified>
  <cp:revision>16</cp:revision>
  <dc:subject/>
  <dc:title>Семья ячейка общества. </dc:title>
</cp:coreProperties>
</file>